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1A18-5FB5-4C8D-8D50-F67FC869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1769-1EB0-4D58-8BA9-756B9F0E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7537-FA66-40A0-A5EE-438E5EDD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7F66-B479-4179-99D3-32300AD2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4E0C-BB64-4CE2-8DAC-0B2B17C0B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73C6-7BBF-4C82-A814-7A3193DA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4542-0923-492E-A9A4-EDFF989D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81DB-8B25-424B-BFF2-9064FB0E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8706-A68C-4E92-96A4-C89D60FA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1620-2B4D-402C-96DF-B5340FC2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09F5-62ED-4F4C-9376-D001B922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C958-99C7-4595-800E-63E15668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58D6-40EC-4486-AD64-68297820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86FD-FBF0-4876-8E82-AF2C63E7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AEE5-7B90-4B04-9AB9-21B5BA29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CB0A-F83F-4961-859E-53A23FF6B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0ECB-C1AF-46B0-B440-F59FF7B4D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105A-57F4-49AB-A7C5-E2B1EA75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C3B7-EA6A-441A-87AC-9BC8A615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953D-29DC-4798-9E35-97C73362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797F-9162-44C3-8C77-4F943A29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DFDD-552B-4DEB-9E26-C8A96641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6536-2FC4-4486-B67D-E5FE6300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0F99-E382-4663-83A6-95ADEFA5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2E6E-0F0F-44EB-BE06-BE8C018AF40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0F81-2833-4B0B-BF35-55A5156ED38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der the integers greatest to leas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58, 32, 27, -12, -2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Unit 5: Expressions, Equations and Integer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549080" y="3809520"/>
            <a:ext cx="6032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tion 6.7: Simplify numeric expressions using the properties of addition and subtrac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bjective: Simplify numeric expressions using the properties of multiplication and addi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Vocabulary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00"/>
                </a:solidFill>
                <a:latin typeface="Comic Sans MS"/>
              </a:rPr>
              <a:t>Distributive property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4c00"/>
                </a:solidFill>
                <a:latin typeface="Comic Sans MS"/>
              </a:rPr>
              <a:t>You can multiply a number and a sum by multiplying the number by each part of the sum and then adding these product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a(b+c) = ab + a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se the distributive property to evaluat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Ex 1.)  4(8 + 9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Ex 2.)  6(12 + 11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Ex 3.)  3 x (17 + 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se the distributive property to evaluat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actic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7(3 + 4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9(a + b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(4 + 7 + 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se the distributive property to evaluat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You can use the distributive property to make multiplying complicated numbers easi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Ex:     73 x 44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(70 x 445) + (3x445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31,150    + 1,33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32,48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se the distributive property to evaluat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actic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1 x 38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3 x 91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ord 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) 28 students are visiting the zoo. The cost is $5 for each student plus an extra $3 to see the panda exhibit. Use the distributive property to find out the total cost for all of the students to go to the zoo and see the panda exhibi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S – Distributive Proper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17:42:23Z</dcterms:created>
  <dc:creator>TAMMY  COON</dc:creator>
  <dc:description/>
  <dc:language>en-US</dc:language>
  <cp:lastModifiedBy>deanne elizabeth mcgrath</cp:lastModifiedBy>
  <dcterms:modified xsi:type="dcterms:W3CDTF">2011-01-20T17:51:04Z</dcterms:modified>
  <cp:revision>10</cp:revision>
  <dc:subject/>
  <dc:title>Opener: Find the % of the number </dc:title>
</cp:coreProperties>
</file>